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82DE7-C128-44B9-A89E-597DDBF9A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36A66-B415-4EF4-8150-BB135E63F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045C0-C975-47B7-B480-118F07407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FEFDD-CE8B-4F73-8AD4-349DD487B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2ADA0-CC59-45B4-AF63-F05674B96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C102D-CBDB-45B1-90D5-4ABF5F2A1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F2F2F-C729-4A0C-9610-3F6B8601D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69D16-F66C-4890-AB8D-40976BFD8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BDBD9-128B-47F1-BFC9-DA06F0CD9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A7A26-B663-4CC3-850E-1A2E7A1DA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EBE65-4775-4E71-9B16-039C66264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4F0C6-1EED-40F1-A815-88C1FCD48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1336F-6372-4656-A1F3-9AF4D7C47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47229-394B-407F-82D1-1ACB28487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D4C11-13D0-4571-90B4-6C5724639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8C0E3-51CD-4E29-95A9-72153BD69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04A48-6ED6-4B7F-AA99-AC33A13B8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6AD3E-EF62-4E36-ABA1-C442E3D02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D6BC8-F1B9-45A2-83BD-D9FB30679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A9625-07C7-44E4-8DA6-143B3F315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202-2BD5-4A67-9548-95FB1BF6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284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D77-3756-45AA-89EC-9CCAB47D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B03-3368-4A44-806F-FF819175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7B6-67BA-4C4D-B89B-4FDCDB2C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7C25-9E0B-4F1C-B034-3E5CDA8C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0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EC96-C877-4F64-85C1-25DFBA44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7453-E556-476C-8A81-BEEDD587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BC98-BEEC-4BCB-BDEC-646F2B55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1298-18F8-4C12-ADEB-AD7230A6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224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E96A-FBFB-4DE0-A652-B19EFDC8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3E5C-C545-425D-AE3D-51647571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0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7B0-D119-458E-9FC0-18060B1E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76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4453-2CDE-4378-B2A6-6FC3B9F9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3025-4EEB-4A3F-A139-7C10088A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284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249B-283C-445E-A99B-CBA324A0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76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840A-568E-49A7-B31F-930E9E33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44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072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44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072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11D2-07F1-4213-BCCA-6D3A0275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2F0-DF59-4D34-B157-2033702B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E00-F25F-44E3-A8AE-C6DB53EB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05A-61A8-439B-9761-6E69E4B3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224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0B6-8889-4F80-80C6-A33263C5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DA4-2A94-4099-9137-4E5AE7DA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7F6-E7A6-49DF-9C90-A424554C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D72-DEF5-44F4-9ADB-9D73AD32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0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1720" cy="60804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9E981-B8BB-4111-A79F-409C4562C869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0960" cy="11415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8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264c"/>
                </a:solidFill>
                <a:latin typeface="Arial"/>
              </a:rPr>
              <a:t>Created by D. Gilr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264c"/>
                </a:solidFill>
                <a:latin typeface="Arial"/>
              </a:rPr>
              <a:t>Heart Lake Secondary Sch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92922-69C7-4C77-AB1A-F723CF7ACD7F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7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50062-AD39-4143-8808-8240405A6243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676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e9"/>
                </a:solidFill>
                <a:latin typeface="Arial"/>
              </a:rPr>
              <a:t>The Work Sheet and Financial Statements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6320" y="76320"/>
            <a:ext cx="3276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ahoma"/>
              </a:rPr>
              <a:t>Chapter 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5F96D7-89C7-40A2-A7E7-E5D44CCA3411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3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3"/>
          <p:cNvSpPr/>
          <p:nvPr/>
        </p:nvSpPr>
        <p:spPr>
          <a:xfrm>
            <a:off x="0" y="647712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960" y="6362640"/>
            <a:ext cx="4800600" cy="45720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78c0b2"/>
                </a:solidFill>
                <a:uFillTx/>
                <a:latin typeface="Arial"/>
              </a:rPr>
              <a:t>Step 4:</a:t>
            </a:r>
            <a:r>
              <a:rPr b="1" lang="en-US" sz="2800" spc="-1" strike="noStrike">
                <a:solidFill>
                  <a:srgbClr val="78c0b2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(b) calc. differenc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5837400" y="2362320"/>
            <a:ext cx="2238120" cy="3960360"/>
            <a:chOff x="5837400" y="2362320"/>
            <a:chExt cx="2238120" cy="3960360"/>
          </a:xfrm>
        </p:grpSpPr>
        <p:sp>
          <p:nvSpPr>
            <p:cNvPr id="178" name="Rectangle 6"/>
            <p:cNvSpPr/>
            <p:nvPr/>
          </p:nvSpPr>
          <p:spPr>
            <a:xfrm>
              <a:off x="5837400" y="2362320"/>
              <a:ext cx="2238120" cy="2360880"/>
            </a:xfrm>
            <a:prstGeom prst="rect">
              <a:avLst/>
            </a:prstGeom>
            <a:solidFill>
              <a:srgbClr val="78c0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Make sure th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difference f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the </a:t>
              </a: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Incom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Statem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columns equal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the difference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for the </a:t>
              </a: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Balanc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Sheet</a:t>
              </a: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 columns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 flipH="1">
              <a:off x="5916240" y="4723200"/>
              <a:ext cx="992880" cy="159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12440" y="4723200"/>
              <a:ext cx="986400" cy="159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Group 9"/>
          <p:cNvGrpSpPr/>
          <p:nvPr/>
        </p:nvGrpSpPr>
        <p:grpSpPr>
          <a:xfrm>
            <a:off x="5829480" y="1828800"/>
            <a:ext cx="2238120" cy="4493880"/>
            <a:chOff x="5829480" y="1828800"/>
            <a:chExt cx="2238120" cy="4493880"/>
          </a:xfrm>
        </p:grpSpPr>
        <p:sp>
          <p:nvSpPr>
            <p:cNvPr id="182" name="Rectangle 10"/>
            <p:cNvSpPr/>
            <p:nvPr/>
          </p:nvSpPr>
          <p:spPr>
            <a:xfrm>
              <a:off x="5829480" y="1828800"/>
              <a:ext cx="2238120" cy="2894400"/>
            </a:xfrm>
            <a:prstGeom prst="rect">
              <a:avLst/>
            </a:prstGeom>
            <a:solidFill>
              <a:srgbClr val="78c0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If they are </a:t>
              </a:r>
              <a:r>
                <a:rPr b="1" lang="en-US" sz="2200" spc="-1" strike="noStrike" u="sng">
                  <a:solidFill>
                    <a:srgbClr val="00264c"/>
                  </a:solidFill>
                  <a:uFillTx/>
                  <a:latin typeface="Arial"/>
                </a:rPr>
                <a:t>no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equal, the wor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sheet do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not balance</a:t>
              </a: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Errors must be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found before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proceeding t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the preparatio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of financia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statements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>
              <a:off x="5907960" y="4723200"/>
              <a:ext cx="992520" cy="159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004520" y="4723200"/>
              <a:ext cx="986400" cy="159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Group 4"/>
          <p:cNvGrpSpPr/>
          <p:nvPr/>
        </p:nvGrpSpPr>
        <p:grpSpPr>
          <a:xfrm>
            <a:off x="4838760" y="6286680"/>
            <a:ext cx="4341240" cy="201240"/>
            <a:chOff x="4838760" y="6286680"/>
            <a:chExt cx="4341240" cy="201240"/>
          </a:xfrm>
        </p:grpSpPr>
        <p:sp>
          <p:nvSpPr>
            <p:cNvPr id="186" name="Oval 5"/>
            <p:cNvSpPr/>
            <p:nvPr/>
          </p:nvSpPr>
          <p:spPr>
            <a:xfrm>
              <a:off x="4838760" y="6286680"/>
              <a:ext cx="12186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6"/>
            <p:cNvSpPr/>
            <p:nvPr/>
          </p:nvSpPr>
          <p:spPr>
            <a:xfrm>
              <a:off x="7961400" y="6287760"/>
              <a:ext cx="12186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21E4FF-86CA-4868-9B96-1445D26B4AFA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382284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78c0b2"/>
                </a:solidFill>
                <a:uFillTx/>
                <a:latin typeface="Arial"/>
              </a:rPr>
              <a:t>Step 4:</a:t>
            </a:r>
            <a:r>
              <a:rPr b="1" lang="en-US" sz="2800" spc="-1" strike="noStrike">
                <a:solidFill>
                  <a:srgbClr val="78c0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(c) Record the balancing figure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(difference) in the appropriate Income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Statement and Balance Sheet column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Because revenues (Income Statement credits)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are greater than expenses (debits) the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difference is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 and it is recorded in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the debit column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The balancing figure appears on the credit side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of the Balance Sheet section, because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Net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Income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 represents an increase in capital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4838760" y="6286680"/>
            <a:ext cx="4341240" cy="201240"/>
            <a:chOff x="4838760" y="6286680"/>
            <a:chExt cx="4341240" cy="201240"/>
          </a:xfrm>
        </p:grpSpPr>
        <p:sp>
          <p:nvSpPr>
            <p:cNvPr id="194" name="Oval 5"/>
            <p:cNvSpPr/>
            <p:nvPr/>
          </p:nvSpPr>
          <p:spPr>
            <a:xfrm>
              <a:off x="4838760" y="6286680"/>
              <a:ext cx="12186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Oval 6"/>
            <p:cNvSpPr/>
            <p:nvPr/>
          </p:nvSpPr>
          <p:spPr>
            <a:xfrm>
              <a:off x="7961400" y="6287760"/>
              <a:ext cx="12186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A6BFC7-F6E1-4C07-B725-6FEF28D13A8F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470BE2-8263-4123-BFC1-77313AF5D86D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4876920" y="2743200"/>
            <a:ext cx="3822480" cy="14479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00264c"/>
                </a:solidFill>
                <a:uFillTx/>
                <a:latin typeface="Arial"/>
              </a:rPr>
              <a:t>Income Statement Colum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Revenue (credits) grea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than expenses (debits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Result …  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Net Income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4"/>
          <p:cNvSpPr/>
          <p:nvPr/>
        </p:nvSpPr>
        <p:spPr>
          <a:xfrm flipH="1">
            <a:off x="5908320" y="4191120"/>
            <a:ext cx="102708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5943600" y="6400800"/>
            <a:ext cx="2057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876920" y="2743200"/>
            <a:ext cx="3822480" cy="14479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00264c"/>
                </a:solidFill>
                <a:uFillTx/>
                <a:latin typeface="Arial"/>
              </a:rPr>
              <a:t>Balance Sheet Colum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Net Income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 (the balanc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figure) is on the credit si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as it is an increase to capit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F2B62B-1471-44C4-A6CE-B02F60F973C5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3"/>
          <p:cNvSpPr/>
          <p:nvPr/>
        </p:nvSpPr>
        <p:spPr>
          <a:xfrm>
            <a:off x="4724280" y="2286000"/>
            <a:ext cx="4343400" cy="19051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00264c"/>
                </a:solidFill>
                <a:uFillTx/>
                <a:latin typeface="Arial"/>
              </a:rPr>
              <a:t>Income Statement Colum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If the work sheet showed 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Net Loss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, the expenses (debit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would be greater than th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revenues (credits)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Net Loss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 (balancing figur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would be in the credit colum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4737240" y="2286000"/>
            <a:ext cx="4343400" cy="19051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00264c"/>
                </a:solidFill>
                <a:uFillTx/>
                <a:latin typeface="Arial"/>
              </a:rPr>
              <a:t>Balance Sheet Colum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If the work sheet showed 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Net Loss,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 the balanc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figure would be on th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debit side as it is a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decrease to capit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5867280" y="4191120"/>
            <a:ext cx="1065240" cy="2309400"/>
            <a:chOff x="5867280" y="4191120"/>
            <a:chExt cx="1065240" cy="2309400"/>
          </a:xfrm>
        </p:grpSpPr>
        <p:sp>
          <p:nvSpPr>
            <p:cNvPr id="215" name="Line 6"/>
            <p:cNvSpPr/>
            <p:nvPr/>
          </p:nvSpPr>
          <p:spPr>
            <a:xfrm flipH="1">
              <a:off x="6397920" y="4191120"/>
              <a:ext cx="459000" cy="205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Oval 7"/>
            <p:cNvSpPr/>
            <p:nvPr/>
          </p:nvSpPr>
          <p:spPr>
            <a:xfrm>
              <a:off x="5867280" y="6272280"/>
              <a:ext cx="1065240" cy="228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6934320" y="4191120"/>
            <a:ext cx="1065240" cy="2309400"/>
            <a:chOff x="6934320" y="4191120"/>
            <a:chExt cx="1065240" cy="2309400"/>
          </a:xfrm>
        </p:grpSpPr>
        <p:sp>
          <p:nvSpPr>
            <p:cNvPr id="218" name="Line 9"/>
            <p:cNvSpPr/>
            <p:nvPr/>
          </p:nvSpPr>
          <p:spPr>
            <a:xfrm>
              <a:off x="6934320" y="4191120"/>
              <a:ext cx="532440" cy="205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6934320" y="6272280"/>
              <a:ext cx="1065240" cy="228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185A88-7B84-4FDF-AD39-4D771A58BC3F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93680" y="178920"/>
            <a:ext cx="805032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Work Sheet and the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Financial Stateme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Group 3"/>
          <p:cNvGrpSpPr/>
          <p:nvPr/>
        </p:nvGrpSpPr>
        <p:grpSpPr>
          <a:xfrm>
            <a:off x="25560" y="1392120"/>
            <a:ext cx="7102080" cy="5612040"/>
            <a:chOff x="25560" y="1392120"/>
            <a:chExt cx="7102080" cy="5612040"/>
          </a:xfrm>
        </p:grpSpPr>
        <p:graphicFrame>
          <p:nvGraphicFramePr>
            <p:cNvPr id="225" name="Object 4"/>
            <p:cNvGraphicFramePr/>
            <p:nvPr/>
          </p:nvGraphicFramePr>
          <p:xfrm>
            <a:off x="25560" y="1392120"/>
            <a:ext cx="6932520" cy="5612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6" name="Object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560" y="1392120"/>
                      <a:ext cx="6932520" cy="561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AutoShape 5"/>
            <p:cNvSpPr/>
            <p:nvPr/>
          </p:nvSpPr>
          <p:spPr>
            <a:xfrm>
              <a:off x="6945480" y="1409400"/>
              <a:ext cx="182160" cy="5561280"/>
            </a:xfrm>
            <a:custGeom>
              <a:avLst/>
              <a:gdLst>
                <a:gd name="textAreaLeft" fmla="*/ 0 w 182160"/>
                <a:gd name="textAreaRight" fmla="*/ 65880 w 182160"/>
                <a:gd name="textAreaTop" fmla="*/ 144720 h 5561280"/>
                <a:gd name="textAreaBottom" fmla="*/ 5416560 h 556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ccffc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3352680" y="3200400"/>
            <a:ext cx="5789520" cy="1903320"/>
            <a:chOff x="3352680" y="3200400"/>
            <a:chExt cx="5789520" cy="1903320"/>
          </a:xfrm>
        </p:grpSpPr>
        <p:sp>
          <p:nvSpPr>
            <p:cNvPr id="229" name="Rectangle 7"/>
            <p:cNvSpPr/>
            <p:nvPr/>
          </p:nvSpPr>
          <p:spPr>
            <a:xfrm>
              <a:off x="7161840" y="3200400"/>
              <a:ext cx="1980360" cy="913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3352680" y="3961800"/>
              <a:ext cx="2361600" cy="1141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 flipH="1">
              <a:off x="5788800" y="4024800"/>
              <a:ext cx="13744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Group 10"/>
          <p:cNvGrpSpPr/>
          <p:nvPr/>
        </p:nvGrpSpPr>
        <p:grpSpPr>
          <a:xfrm>
            <a:off x="4330800" y="4038480"/>
            <a:ext cx="4811400" cy="1776240"/>
            <a:chOff x="4330800" y="4038480"/>
            <a:chExt cx="4811400" cy="1776240"/>
          </a:xfrm>
        </p:grpSpPr>
        <p:sp>
          <p:nvSpPr>
            <p:cNvPr id="233" name="Oval 11"/>
            <p:cNvSpPr/>
            <p:nvPr/>
          </p:nvSpPr>
          <p:spPr>
            <a:xfrm>
              <a:off x="7923600" y="4038480"/>
              <a:ext cx="121860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4330800" y="5434200"/>
              <a:ext cx="1370880" cy="380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5712480" y="4190760"/>
              <a:ext cx="2212200" cy="144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Group 14"/>
          <p:cNvGrpSpPr/>
          <p:nvPr/>
        </p:nvGrpSpPr>
        <p:grpSpPr>
          <a:xfrm>
            <a:off x="3073320" y="4216320"/>
            <a:ext cx="6068880" cy="2309400"/>
            <a:chOff x="3073320" y="4216320"/>
            <a:chExt cx="6068880" cy="2309400"/>
          </a:xfrm>
        </p:grpSpPr>
        <p:grpSp>
          <p:nvGrpSpPr>
            <p:cNvPr id="237" name="Group 15"/>
            <p:cNvGrpSpPr/>
            <p:nvPr/>
          </p:nvGrpSpPr>
          <p:grpSpPr>
            <a:xfrm>
              <a:off x="6858000" y="4216320"/>
              <a:ext cx="2284200" cy="2309400"/>
              <a:chOff x="6858000" y="4216320"/>
              <a:chExt cx="2284200" cy="2309400"/>
            </a:xfrm>
          </p:grpSpPr>
          <p:sp>
            <p:nvSpPr>
              <p:cNvPr id="238" name="Oval 16"/>
              <p:cNvSpPr/>
              <p:nvPr/>
            </p:nvSpPr>
            <p:spPr>
              <a:xfrm>
                <a:off x="6858000" y="4216320"/>
                <a:ext cx="1218240" cy="3045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17"/>
              <p:cNvSpPr/>
              <p:nvPr/>
            </p:nvSpPr>
            <p:spPr>
              <a:xfrm>
                <a:off x="7923960" y="6221160"/>
                <a:ext cx="1218240" cy="3045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18"/>
            <p:cNvGrpSpPr/>
            <p:nvPr/>
          </p:nvGrpSpPr>
          <p:grpSpPr>
            <a:xfrm>
              <a:off x="4419720" y="4419720"/>
              <a:ext cx="3503520" cy="1941120"/>
              <a:chOff x="4419720" y="4419720"/>
              <a:chExt cx="3503520" cy="1941120"/>
            </a:xfrm>
          </p:grpSpPr>
          <p:sp>
            <p:nvSpPr>
              <p:cNvPr id="241" name="Line 19"/>
              <p:cNvSpPr/>
              <p:nvPr/>
            </p:nvSpPr>
            <p:spPr>
              <a:xfrm flipH="1">
                <a:off x="4419720" y="4419720"/>
                <a:ext cx="2437920" cy="167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Line 20"/>
              <p:cNvSpPr/>
              <p:nvPr/>
            </p:nvSpPr>
            <p:spPr>
              <a:xfrm flipH="1" flipV="1">
                <a:off x="4419720" y="5825160"/>
                <a:ext cx="3503520" cy="535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" name="Oval 21"/>
            <p:cNvSpPr/>
            <p:nvPr/>
          </p:nvSpPr>
          <p:spPr>
            <a:xfrm>
              <a:off x="3073320" y="5651640"/>
              <a:ext cx="137160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Group 22"/>
          <p:cNvGrpSpPr/>
          <p:nvPr/>
        </p:nvGrpSpPr>
        <p:grpSpPr>
          <a:xfrm>
            <a:off x="5791320" y="1803240"/>
            <a:ext cx="2309400" cy="1852560"/>
            <a:chOff x="5791320" y="1803240"/>
            <a:chExt cx="2309400" cy="1852560"/>
          </a:xfrm>
        </p:grpSpPr>
        <p:sp>
          <p:nvSpPr>
            <p:cNvPr id="245" name="Oval 23"/>
            <p:cNvSpPr/>
            <p:nvPr/>
          </p:nvSpPr>
          <p:spPr>
            <a:xfrm>
              <a:off x="6996600" y="2057040"/>
              <a:ext cx="1104120" cy="1370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5791320" y="2285280"/>
              <a:ext cx="1217880" cy="1370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25"/>
            <p:cNvSpPr/>
            <p:nvPr/>
          </p:nvSpPr>
          <p:spPr>
            <a:xfrm>
              <a:off x="6552360" y="1803240"/>
              <a:ext cx="913680" cy="406080"/>
            </a:xfrm>
            <a:custGeom>
              <a:avLst/>
              <a:gdLst>
                <a:gd name="textAreaLeft" fmla="*/ 0 w 913680"/>
                <a:gd name="textAreaRight" fmla="*/ 914040 w 91368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576" h="256">
                  <a:moveTo>
                    <a:pt x="576" y="160"/>
                  </a:moveTo>
                  <a:cubicBezTo>
                    <a:pt x="480" y="80"/>
                    <a:pt x="384" y="0"/>
                    <a:pt x="288" y="16"/>
                  </a:cubicBezTo>
                  <a:cubicBezTo>
                    <a:pt x="192" y="32"/>
                    <a:pt x="56" y="216"/>
                    <a:pt x="0" y="2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Rectangle 26"/>
          <p:cNvSpPr/>
          <p:nvPr/>
        </p:nvSpPr>
        <p:spPr>
          <a:xfrm>
            <a:off x="3276720" y="2514600"/>
            <a:ext cx="213336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e9"/>
                </a:solidFill>
                <a:latin typeface="Arial"/>
              </a:rPr>
              <a:t>Review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e9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D9DD46-B595-4BD5-A7FB-E11B18EDBAE5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3"/>
          <p:cNvGraphicFramePr/>
          <p:nvPr/>
        </p:nvGraphicFramePr>
        <p:xfrm>
          <a:off x="2895480" y="31680"/>
          <a:ext cx="6019920" cy="442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31680"/>
                    <a:ext cx="6019920" cy="44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Group 4"/>
          <p:cNvGrpSpPr/>
          <p:nvPr/>
        </p:nvGrpSpPr>
        <p:grpSpPr>
          <a:xfrm>
            <a:off x="5854680" y="1143000"/>
            <a:ext cx="3134880" cy="3541320"/>
            <a:chOff x="5854680" y="1143000"/>
            <a:chExt cx="3134880" cy="3541320"/>
          </a:xfrm>
        </p:grpSpPr>
        <p:sp>
          <p:nvSpPr>
            <p:cNvPr id="256" name="Oval 5"/>
            <p:cNvSpPr/>
            <p:nvPr/>
          </p:nvSpPr>
          <p:spPr>
            <a:xfrm>
              <a:off x="5854680" y="4367160"/>
              <a:ext cx="1142280" cy="317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Oval 6"/>
            <p:cNvSpPr/>
            <p:nvPr/>
          </p:nvSpPr>
          <p:spPr>
            <a:xfrm>
              <a:off x="7390440" y="1143000"/>
              <a:ext cx="1599120" cy="317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7"/>
            <p:cNvSpPr/>
            <p:nvPr/>
          </p:nvSpPr>
          <p:spPr>
            <a:xfrm flipV="1">
              <a:off x="6857280" y="1445400"/>
              <a:ext cx="990000" cy="297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8"/>
          <p:cNvGrpSpPr/>
          <p:nvPr/>
        </p:nvGrpSpPr>
        <p:grpSpPr>
          <a:xfrm>
            <a:off x="4876920" y="1828800"/>
            <a:ext cx="2613960" cy="4290480"/>
            <a:chOff x="4876920" y="1828800"/>
            <a:chExt cx="2613960" cy="4290480"/>
          </a:xfrm>
        </p:grpSpPr>
        <p:sp>
          <p:nvSpPr>
            <p:cNvPr id="260" name="Rectangle 9"/>
            <p:cNvSpPr/>
            <p:nvPr/>
          </p:nvSpPr>
          <p:spPr>
            <a:xfrm>
              <a:off x="4876920" y="4596120"/>
              <a:ext cx="1065600" cy="1523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6044040" y="1828800"/>
              <a:ext cx="1446840" cy="1904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11"/>
            <p:cNvSpPr/>
            <p:nvPr/>
          </p:nvSpPr>
          <p:spPr>
            <a:xfrm flipV="1">
              <a:off x="5942520" y="3730680"/>
              <a:ext cx="608760" cy="916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Rectangle 12"/>
          <p:cNvSpPr/>
          <p:nvPr/>
        </p:nvSpPr>
        <p:spPr>
          <a:xfrm>
            <a:off x="4737240" y="825480"/>
            <a:ext cx="2133360" cy="838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e9"/>
                </a:solidFill>
                <a:latin typeface="Arial"/>
              </a:rPr>
              <a:t>Review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e9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9C158-235B-48EB-B64D-72189B1692A2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1920" y="3048120"/>
            <a:ext cx="434340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Accounts Pay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Miscellaneous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Advertising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Wages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Mortgage Pay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Utilities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G. Rojek, Capita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elivery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HST Recover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47960" y="3048120"/>
            <a:ext cx="419076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buSzPct val="100000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Bank Lo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Accounts Receiv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Automobi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G. Rojek, Drawing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Bank Charges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2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Rent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2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2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Truck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2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HST Pay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title"/>
          </p:nvPr>
        </p:nvSpPr>
        <p:spPr>
          <a:xfrm>
            <a:off x="1093680" y="-79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ass Work Exercise 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52280" y="180324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24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For each account listed below, indicate whether it would be extended to the Income Statement or Balance Sheet, debit or credit colum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0ED177-E873-48F7-B1B0-75DEFD0A9664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3680" y="-79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ass Work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ercise 2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Prepare a work sheet for N. Foreman and Company for the month ended April 30, 2007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72" name="Picture 7" descr="Pg 261 Ex 2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7D1958-49F9-4C14-988D-C2164EE88161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3680" y="-79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ass Work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. 262, Exercise 4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3320" y="16002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Locate errors and make necessary correction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C362E-CE49-4840-BA08-83D1A88EFF74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82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e9"/>
                </a:solidFill>
                <a:latin typeface="Arial"/>
              </a:rPr>
              <a:t>8.1 The Six-Column Work Sheet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DD9A26-17A5-41D9-A6C6-A21C69AFAA12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urpose of the 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78c0b2"/>
                </a:solidFill>
                <a:latin typeface="Arial"/>
              </a:rPr>
              <a:t>work sheet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 is an informal business paper used to organize and plan the information for the financial statement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is is a great application for a computerized spreadsheet program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In Chapter 9 we will expand the </a:t>
            </a:r>
            <a:r>
              <a:rPr b="1" lang="en-US" sz="3200" spc="-1" strike="noStrike">
                <a:solidFill>
                  <a:srgbClr val="78c0b2"/>
                </a:solidFill>
                <a:latin typeface="Arial"/>
              </a:rPr>
              <a:t>work sheet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 to eight columns, allowing for the adjustments required by certain GAAP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A7BB28-03BC-4416-BF50-C9A625D7CAD2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ontrol Accounts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for Accounts Receivable and Accounts Payab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In the future, when we prepare a trial balance, or a work sheet, we will not display the debtors’ names or creditors’ names associated with Accounts Receivable and Accounts Payabl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Alternatively, we will use </a:t>
            </a:r>
            <a:r>
              <a:rPr b="1" lang="en-US" sz="3200" spc="-1" strike="noStrike">
                <a:solidFill>
                  <a:srgbClr val="78c0b2"/>
                </a:solidFill>
                <a:latin typeface="Arial"/>
              </a:rPr>
              <a:t>control accounts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78c0b2"/>
                </a:solidFill>
                <a:latin typeface="Arial"/>
              </a:rPr>
              <a:t>Accounts Receivable control account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 represents the sum of the balances of all the individual Accounts Receivable account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3C286D-C2AA-4C11-AEE4-3B31D8D87C64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ontrol Accounts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for Accounts Receivable and Accounts Payab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78c0b2"/>
                </a:solidFill>
                <a:latin typeface="Arial"/>
              </a:rPr>
              <a:t>Accounts Payable control account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 represents the sum of the balances of all the individual Accounts Payable account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Having two control accounts, instead of dozens or hundreds of individual debtors’ and creditors’ accounts, streamlines the work sheet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e details about the accounts of individual debtors and creditors are kept in separate records.  This will be covered in more detail in Chapter 11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3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4E7EC4-A219-4256-84E4-576984D9889D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0" y="1409760"/>
            <a:ext cx="9142560" cy="5903640"/>
            <a:chOff x="0" y="1409760"/>
            <a:chExt cx="9142560" cy="5903640"/>
          </a:xfrm>
        </p:grpSpPr>
        <p:sp>
          <p:nvSpPr>
            <p:cNvPr id="119" name="Rectangle 4"/>
            <p:cNvSpPr/>
            <p:nvPr/>
          </p:nvSpPr>
          <p:spPr>
            <a:xfrm>
              <a:off x="0" y="1409760"/>
              <a:ext cx="9142560" cy="59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AutoShape 5"/>
          <p:cNvSpPr/>
          <p:nvPr/>
        </p:nvSpPr>
        <p:spPr>
          <a:xfrm rot="5400000">
            <a:off x="4230360" y="-1839960"/>
            <a:ext cx="685800" cy="8991720"/>
          </a:xfrm>
          <a:custGeom>
            <a:avLst/>
            <a:gdLst>
              <a:gd name="textAreaLeft" fmla="*/ 0 w 685800"/>
              <a:gd name="textAreaRight" fmla="*/ 247680 w 685800"/>
              <a:gd name="textAreaTop" fmla="*/ 234360 h 8991720"/>
              <a:gd name="textAreaBottom" fmla="*/ 8757360 h 899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8686800" cy="373356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78c0b2"/>
                </a:solidFill>
                <a:uFillTx/>
                <a:latin typeface="Arial"/>
              </a:rPr>
              <a:t>Step 1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Write in the title of the work sheet and all of the heading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Accoun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rial Balan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Balance Shee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3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6FCFF3-F3A6-42A7-AD5C-5B15374A1C59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6" name="Group 2"/>
          <p:cNvGrpSpPr/>
          <p:nvPr/>
        </p:nvGrpSpPr>
        <p:grpSpPr>
          <a:xfrm>
            <a:off x="0" y="1409760"/>
            <a:ext cx="9141840" cy="5903640"/>
            <a:chOff x="0" y="1409760"/>
            <a:chExt cx="9141840" cy="5903640"/>
          </a:xfrm>
        </p:grpSpPr>
        <p:sp>
          <p:nvSpPr>
            <p:cNvPr id="127" name="Rectangle 4"/>
            <p:cNvSpPr/>
            <p:nvPr/>
          </p:nvSpPr>
          <p:spPr>
            <a:xfrm>
              <a:off x="0" y="1409760"/>
              <a:ext cx="9141840" cy="59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AutoShape 5"/>
          <p:cNvSpPr/>
          <p:nvPr/>
        </p:nvSpPr>
        <p:spPr>
          <a:xfrm>
            <a:off x="4952880" y="2286000"/>
            <a:ext cx="838440" cy="4038480"/>
          </a:xfrm>
          <a:custGeom>
            <a:avLst/>
            <a:gdLst>
              <a:gd name="textAreaLeft" fmla="*/ 0 w 838440"/>
              <a:gd name="textAreaRight" fmla="*/ 302760 w 8384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867280" y="2565000"/>
            <a:ext cx="3276720" cy="350532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78c0b2"/>
                </a:solidFill>
                <a:uFillTx/>
                <a:latin typeface="Arial"/>
              </a:rPr>
              <a:t>Step 2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Enter all accounts, with their balances, in the first two colum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3E2DD-55B6-4BE1-9542-2899876DB4D0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" name="Group 2"/>
          <p:cNvGrpSpPr/>
          <p:nvPr/>
        </p:nvGrpSpPr>
        <p:grpSpPr>
          <a:xfrm>
            <a:off x="0" y="1409760"/>
            <a:ext cx="9256320" cy="5904000"/>
            <a:chOff x="0" y="1409760"/>
            <a:chExt cx="9256320" cy="5904000"/>
          </a:xfrm>
        </p:grpSpPr>
        <p:graphicFrame>
          <p:nvGraphicFramePr>
            <p:cNvPr id="133" name="Object 3"/>
            <p:cNvGraphicFramePr/>
            <p:nvPr/>
          </p:nvGraphicFramePr>
          <p:xfrm>
            <a:off x="0" y="1409760"/>
            <a:ext cx="9142200" cy="590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4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409760"/>
                      <a:ext cx="9142200" cy="590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Rectangle 4"/>
            <p:cNvSpPr/>
            <p:nvPr/>
          </p:nvSpPr>
          <p:spPr>
            <a:xfrm>
              <a:off x="4914000" y="6094440"/>
              <a:ext cx="43423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6095520"/>
            <a:ext cx="8991360" cy="82260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78c0b2"/>
                </a:solidFill>
                <a:uFillTx/>
                <a:latin typeface="Arial"/>
              </a:rPr>
              <a:t>Step 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Extend each of the amounts from the trial balanc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4915080" y="2286000"/>
            <a:ext cx="2245680" cy="2131920"/>
            <a:chOff x="4915080" y="2286000"/>
            <a:chExt cx="2245680" cy="2131920"/>
          </a:xfrm>
        </p:grpSpPr>
        <p:sp>
          <p:nvSpPr>
            <p:cNvPr id="138" name="Rectangle 7"/>
            <p:cNvSpPr/>
            <p:nvPr/>
          </p:nvSpPr>
          <p:spPr>
            <a:xfrm>
              <a:off x="4915080" y="2286000"/>
              <a:ext cx="1941120" cy="2131920"/>
            </a:xfrm>
            <a:prstGeom prst="rect">
              <a:avLst/>
            </a:pr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Assets,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Liabilities,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Capital an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Drawing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in th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 u="sng">
                  <a:solidFill>
                    <a:srgbClr val="00264c"/>
                  </a:solidFill>
                  <a:uFillTx/>
                  <a:latin typeface="Arial"/>
                </a:rPr>
                <a:t>Balance Shee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columns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AutoShape 8"/>
            <p:cNvSpPr/>
            <p:nvPr/>
          </p:nvSpPr>
          <p:spPr>
            <a:xfrm>
              <a:off x="6856200" y="2286000"/>
              <a:ext cx="304560" cy="2128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28680"/>
                <a:gd name="textAreaBottom" fmla="*/ 2073240 h 21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6807240" y="4495680"/>
            <a:ext cx="2195280" cy="1525680"/>
            <a:chOff x="6807240" y="4495680"/>
            <a:chExt cx="2195280" cy="1525680"/>
          </a:xfrm>
        </p:grpSpPr>
        <p:sp>
          <p:nvSpPr>
            <p:cNvPr id="141" name="Rectangle 10"/>
            <p:cNvSpPr/>
            <p:nvPr/>
          </p:nvSpPr>
          <p:spPr>
            <a:xfrm>
              <a:off x="7022880" y="4495680"/>
              <a:ext cx="1979640" cy="1522800"/>
            </a:xfrm>
            <a:prstGeom prst="rect">
              <a:avLst/>
            </a:pr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Revenue an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Expenses i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the </a:t>
              </a:r>
              <a:r>
                <a:rPr b="1" lang="en-US" sz="2200" spc="-1" strike="noStrike" u="sng">
                  <a:solidFill>
                    <a:srgbClr val="00264c"/>
                  </a:solidFill>
                  <a:uFillTx/>
                  <a:latin typeface="Arial"/>
                </a:rPr>
                <a:t>Incom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 u="sng">
                  <a:solidFill>
                    <a:srgbClr val="00264c"/>
                  </a:solidFill>
                  <a:uFillTx/>
                  <a:latin typeface="Arial"/>
                </a:rPr>
                <a:t>Statem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columns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AutoShape 11"/>
            <p:cNvSpPr/>
            <p:nvPr/>
          </p:nvSpPr>
          <p:spPr>
            <a:xfrm>
              <a:off x="6807240" y="4495680"/>
              <a:ext cx="228240" cy="152568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39600 h 1525680"/>
                <a:gd name="textAreaBottom" fmla="*/ 1486080 h 15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Group 57"/>
          <p:cNvGrpSpPr/>
          <p:nvPr/>
        </p:nvGrpSpPr>
        <p:grpSpPr>
          <a:xfrm>
            <a:off x="3929040" y="2371680"/>
            <a:ext cx="4215240" cy="3629520"/>
            <a:chOff x="3929040" y="2371680"/>
            <a:chExt cx="4215240" cy="3629520"/>
          </a:xfrm>
        </p:grpSpPr>
        <p:grpSp>
          <p:nvGrpSpPr>
            <p:cNvPr id="144" name="Group 56"/>
            <p:cNvGrpSpPr/>
            <p:nvPr/>
          </p:nvGrpSpPr>
          <p:grpSpPr>
            <a:xfrm>
              <a:off x="3929040" y="2371680"/>
              <a:ext cx="4215240" cy="1643400"/>
              <a:chOff x="3929040" y="2371680"/>
              <a:chExt cx="4215240" cy="1643400"/>
            </a:xfrm>
          </p:grpSpPr>
          <p:cxnSp>
            <p:nvCxnSpPr>
              <p:cNvPr id="145" name="Straight Arrow Connector 14"/>
              <p:cNvCxnSpPr/>
              <p:nvPr/>
            </p:nvCxnSpPr>
            <p:spPr>
              <a:xfrm>
                <a:off x="3929040" y="237168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46" name="Straight Arrow Connector 15"/>
              <p:cNvCxnSpPr/>
              <p:nvPr/>
            </p:nvCxnSpPr>
            <p:spPr>
              <a:xfrm>
                <a:off x="3929040" y="254268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47" name="Straight Arrow Connector 16"/>
              <p:cNvCxnSpPr/>
              <p:nvPr/>
            </p:nvCxnSpPr>
            <p:spPr>
              <a:xfrm>
                <a:off x="3929040" y="274248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48" name="Straight Arrow Connector 17"/>
              <p:cNvCxnSpPr/>
              <p:nvPr/>
            </p:nvCxnSpPr>
            <p:spPr>
              <a:xfrm>
                <a:off x="3929040" y="292932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49" name="Straight Arrow Connector 18"/>
              <p:cNvCxnSpPr/>
              <p:nvPr/>
            </p:nvCxnSpPr>
            <p:spPr>
              <a:xfrm>
                <a:off x="3929040" y="309996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0" name="Straight Arrow Connector 19"/>
              <p:cNvCxnSpPr/>
              <p:nvPr/>
            </p:nvCxnSpPr>
            <p:spPr>
              <a:xfrm>
                <a:off x="5000400" y="328500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1" name="Straight Arrow Connector 20"/>
              <p:cNvCxnSpPr/>
              <p:nvPr/>
            </p:nvCxnSpPr>
            <p:spPr>
              <a:xfrm>
                <a:off x="5000400" y="347004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2" name="Straight Arrow Connector 21"/>
              <p:cNvCxnSpPr/>
              <p:nvPr/>
            </p:nvCxnSpPr>
            <p:spPr>
              <a:xfrm flipV="1">
                <a:off x="5000400" y="3643560"/>
                <a:ext cx="2215440" cy="266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3" name="Straight Arrow Connector 22"/>
              <p:cNvCxnSpPr/>
              <p:nvPr/>
            </p:nvCxnSpPr>
            <p:spPr>
              <a:xfrm>
                <a:off x="5000400" y="384264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4" name="Straight Arrow Connector 23"/>
              <p:cNvCxnSpPr/>
              <p:nvPr/>
            </p:nvCxnSpPr>
            <p:spPr>
              <a:xfrm>
                <a:off x="5000400" y="401328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55" name="Straight Arrow Connector 40"/>
            <p:cNvCxnSpPr/>
            <p:nvPr/>
          </p:nvCxnSpPr>
          <p:spPr>
            <a:xfrm>
              <a:off x="3929040" y="4368960"/>
              <a:ext cx="31442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45"/>
            <p:cNvCxnSpPr/>
            <p:nvPr/>
          </p:nvCxnSpPr>
          <p:spPr>
            <a:xfrm>
              <a:off x="4857480" y="457236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47"/>
            <p:cNvCxnSpPr/>
            <p:nvPr/>
          </p:nvCxnSpPr>
          <p:spPr>
            <a:xfrm>
              <a:off x="3929040" y="474084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8" name="Straight Arrow Connector 48"/>
            <p:cNvCxnSpPr/>
            <p:nvPr/>
          </p:nvCxnSpPr>
          <p:spPr>
            <a:xfrm>
              <a:off x="3929040" y="492948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9" name="Straight Arrow Connector 49"/>
            <p:cNvCxnSpPr/>
            <p:nvPr/>
          </p:nvCxnSpPr>
          <p:spPr>
            <a:xfrm>
              <a:off x="3929040" y="509796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0" name="Straight Arrow Connector 50"/>
            <p:cNvCxnSpPr/>
            <p:nvPr/>
          </p:nvCxnSpPr>
          <p:spPr>
            <a:xfrm>
              <a:off x="3929040" y="528516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1" name="Straight Arrow Connector 51"/>
            <p:cNvCxnSpPr/>
            <p:nvPr/>
          </p:nvCxnSpPr>
          <p:spPr>
            <a:xfrm>
              <a:off x="3929040" y="546984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2" name="Straight Arrow Connector 52"/>
            <p:cNvCxnSpPr/>
            <p:nvPr/>
          </p:nvCxnSpPr>
          <p:spPr>
            <a:xfrm>
              <a:off x="3929040" y="565704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3" name="Straight Arrow Connector 53"/>
            <p:cNvCxnSpPr/>
            <p:nvPr/>
          </p:nvCxnSpPr>
          <p:spPr>
            <a:xfrm>
              <a:off x="3929040" y="584172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4" name="Straight Arrow Connector 54"/>
            <p:cNvCxnSpPr/>
            <p:nvPr/>
          </p:nvCxnSpPr>
          <p:spPr>
            <a:xfrm>
              <a:off x="3929040" y="599940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D89966-0798-4D24-9FE3-878C6BFADD8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7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320" y="6362640"/>
            <a:ext cx="9067680" cy="45720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78c0b2"/>
                </a:solidFill>
                <a:uFillTx/>
                <a:latin typeface="Arial"/>
              </a:rPr>
              <a:t>Step 4:</a:t>
            </a:r>
            <a:r>
              <a:rPr b="1" lang="en-US" sz="2800" spc="-1" strike="noStrike">
                <a:solidFill>
                  <a:srgbClr val="78c0b2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Balance the work sheet  …  (a) take total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786040" y="6107040"/>
            <a:ext cx="6286680" cy="250920"/>
          </a:xfrm>
          <a:prstGeom prst="rect">
            <a:avLst/>
          </a:prstGeom>
          <a:solidFill>
            <a:srgbClr val="00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7:35:42Z</dcterms:created>
  <dc:creator>PeelUser</dc:creator>
  <dc:description/>
  <dc:language>en-US</dc:language>
  <cp:lastModifiedBy>Cameron Stott</cp:lastModifiedBy>
  <dcterms:modified xsi:type="dcterms:W3CDTF">2016-04-20T16:20:18Z</dcterms:modified>
  <cp:revision>15</cp:revision>
  <dc:subject/>
  <dc:title>The Work Sheet and Financial Statements</dc:title>
</cp:coreProperties>
</file>